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8008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213080"/>
            <a:ext cx="78008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2880" y="2133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21308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2880" y="421308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3160" y="213336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0880" y="213336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21308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3160" y="421308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0880" y="4213080"/>
            <a:ext cx="251172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133360"/>
            <a:ext cx="78008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8008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066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2880" y="2133360"/>
            <a:ext cx="38066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2880" y="2133360"/>
            <a:ext cx="38066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21308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066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2133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2880" y="421308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880" y="2133360"/>
            <a:ext cx="38066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213080"/>
            <a:ext cx="780084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60348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1999 by Timo Hummel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zz Control Driver Architecture /</a:t>
            </a:r>
            <a:fld id="{855317AC-A1F0-4ED2-80AD-8EEC224B6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03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0"/>
          <a:ext cx="9144000" cy="29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685440" y="2133360"/>
            <a:ext cx="78008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bdc7d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bdc7d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bdc7d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bdc7d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bdc7d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752480"/>
            <a:ext cx="3505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32 API for serial and USB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4572000"/>
            <a:ext cx="350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zz Control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86728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586728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586728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143000" y="502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62320" y="502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581280" y="5029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352680"/>
            <a:ext cx="350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wra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62320" y="3809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533520"/>
            <a:ext cx="3504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zz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36232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286000" y="990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133720"/>
            <a:ext cx="350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zz Control sim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3352680"/>
            <a:ext cx="350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zz Control sim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70572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4495680"/>
            <a:ext cx="3505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zz Control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3809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17:13:41Z</dcterms:created>
  <dc:creator>DJ Rune</dc:creator>
  <dc:description/>
  <dc:language>en-US</dc:language>
  <cp:lastModifiedBy>Eric Lesniewski</cp:lastModifiedBy>
  <dcterms:modified xsi:type="dcterms:W3CDTF">1999-06-23T01:37:02Z</dcterms:modified>
  <cp:revision>1</cp:revision>
  <dc:subject/>
  <dc:title>Kein Folientitel</dc:title>
</cp:coreProperties>
</file>